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57.wmf" ContentType="image/x-wmf"/>
  <Override PartName="/ppt/media/image1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0.jpeg" ContentType="image/jpeg"/>
  <Override PartName="/ppt/media/image61.jpeg" ContentType="image/jpeg"/>
  <Override PartName="/ppt/media/image4.jpeg" ContentType="image/jpeg"/>
  <Override PartName="/ppt/media/image5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0.png" ContentType="image/png"/>
  <Override PartName="/ppt/media/image65.jpeg" ContentType="image/jpeg"/>
  <Override PartName="/ppt/media/image92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67.jpeg" ContentType="image/jpeg"/>
  <Override PartName="/ppt/media/image68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9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5.jpeg" ContentType="image/jpeg"/>
  <Override PartName="/ppt/media/image73.jpeg" ContentType="image/jpeg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94.jpeg" ContentType="image/jpeg"/>
  <Override PartName="/ppt/media/image42.png" ContentType="image/png"/>
  <Override PartName="/ppt/media/image50.jpeg" ContentType="image/jpeg"/>
  <Override PartName="/ppt/media/image87.jpeg" ContentType="image/jpeg"/>
  <Override PartName="/ppt/media/image2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F00-CF4C-47F2-B57D-80135D95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840-4B36-4AA5-98A1-BE5F183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F9C-6E1A-46AF-9378-E6E02726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20C-926F-42C3-90F9-A2A633EB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A5F-23A4-4525-B3BC-4C3975B3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873-CFF6-4C02-9DFF-6CC32B84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AA7-A0A9-4CE5-92EC-8B77955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CB1-280A-4E4F-B652-2A0059E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48-C051-4ACD-A7FB-4D2C4CC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0A2-33B5-404F-A63C-EC8EB94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40D-E8AB-40AC-98EC-E7E8DB4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B56-35C9-4E37-BC46-5515619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2554-0325-4D01-B671-6289E1BF4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hyperlink" Target="http://www.africana.com/real/blackboard/dubois_arrest.ram" TargetMode="External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de S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Your (Nearly) Technologically Savvy Profess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De San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_x000e_woman by rolls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839960" y="1523880"/>
            <a:ext cx="5462640" cy="3810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019760" y="60800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lthy Harl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_x0012_Carl Van Vechten 2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27240" y="-120600"/>
            <a:ext cx="488952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_x0012_Madame C.J. Walker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7160" y="1143000"/>
            <a:ext cx="634968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725920" y="60800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ame C.J. Wal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#13;marcus garvey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65400" y="482760"/>
            <a:ext cx="4813200" cy="5892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37520" y="14320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_x000f_Marcus Garvey 2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143000" y="1066680"/>
            <a:ext cx="6764400" cy="4272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270880" y="585144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us Ga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_x000b_UNIA Parade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40000" y="1238400"/>
            <a:ext cx="6262560" cy="4381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2424600" y="60800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A Pa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 and Dance in Har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_x000b_cotton club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752480" y="1905120"/>
            <a:ext cx="580572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38960" y="36273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tton Cl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_x000c_Bessie Smith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38280" y="685800"/>
            <a:ext cx="483408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747000" y="196524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_x000e_Bessie Smith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152280"/>
            <a:ext cx="4539960" cy="6705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80880" y="2133720"/>
            <a:ext cx="20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 S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essie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_x000e_Billie Holiday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057400" y="1143000"/>
            <a:ext cx="5334120" cy="4110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096800" y="562284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e Holl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_x000c_Cab Calloway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381400" y="684360"/>
            <a:ext cx="4381200" cy="5487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7223400" y="204156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 Callo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s of Harlem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_x000c_harlem folks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804960" y="1434960"/>
            <a:ext cx="7532640" cy="3988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186000" y="5775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ity Within A C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rane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_x000e_Duke Ellington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4147920" cy="5035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412800" y="44136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 Ell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_x0010_Duke Ellington 2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68280" y="1136520"/>
            <a:ext cx="6605640" cy="45849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716280" y="1364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 Ellington Orch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_x0010_Duke Ellington 3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474516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9680" y="12034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D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_x0010_Duke Ellington 4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48120" y="533520"/>
            <a:ext cx="404784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051200" y="188928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or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_x000c_Ethel Waters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46280" y="519120"/>
            <a:ext cx="4051440" cy="5818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39560" y="150804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l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x000e_Ethel Waters 2                                                 0000652A&#9;De Santis                      ABA78158:"/>
          <p:cNvPicPr/>
          <p:nvPr/>
        </p:nvPicPr>
        <p:blipFill>
          <a:blip r:embed="rId1"/>
          <a:srcRect l="0" t="0" r="30062" b="30058"/>
          <a:stretch/>
        </p:blipFill>
        <p:spPr>
          <a:xfrm>
            <a:off x="2514600" y="304920"/>
            <a:ext cx="5284800" cy="6324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63240" y="898560"/>
            <a:ext cx="17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l W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_x0012_Fletcher Henderson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24120" y="754200"/>
            <a:ext cx="3695760" cy="5348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595080" y="112716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_x000e_Florence Mills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35200" y="735120"/>
            <a:ext cx="3873600" cy="5386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63600" y="11271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ce M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_x0011_Frogs Dance Group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5360" y="1238400"/>
            <a:ext cx="6351480" cy="4381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111480" y="6156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abulous Josephine B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_x0011_Josephine Baker 1                                              0000652A&#9;De Santis                      ABA78158:"/>
          <p:cNvPicPr/>
          <p:nvPr/>
        </p:nvPicPr>
        <p:blipFill>
          <a:blip r:embed="rId1"/>
          <a:srcRect l="0" t="0" r="-23728" b="-23750"/>
          <a:stretch/>
        </p:blipFill>
        <p:spPr>
          <a:xfrm>
            <a:off x="3048120" y="1600200"/>
            <a:ext cx="38973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#13;Black Yankee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41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3581280" y="579132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ack Yank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_x000f_Josephine Baker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95480" y="1066680"/>
            <a:ext cx="4191120" cy="5310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746280" y="196524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sephin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tr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_x0011_Josephine Baker 2                                              0000652A&#9;De Santis                      ABA78158:"/>
          <p:cNvPicPr/>
          <p:nvPr/>
        </p:nvPicPr>
        <p:blipFill>
          <a:blip r:embed="rId1"/>
          <a:srcRect l="0" t="0" r="-22545" b="-22574"/>
          <a:stretch/>
        </p:blipFill>
        <p:spPr>
          <a:xfrm>
            <a:off x="2895480" y="1066680"/>
            <a:ext cx="3984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_x0011_Josephine Baker 3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19520" y="1060560"/>
            <a:ext cx="35049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_x0011_Josephine Baker 4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24080" y="1066680"/>
            <a:ext cx="289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_x0011_Josephine Baker 5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22560" y="1079640"/>
            <a:ext cx="309888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_x0011_Josephine Baker 6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139680"/>
            <a:ext cx="4724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_x0011_Josephine Baker 7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65320" y="1054080"/>
            <a:ext cx="3213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_x0011_Josephine Baker 8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48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_x000f_Louis Armstrong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76440" y="1523880"/>
            <a:ext cx="419112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4327560" y="5176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Armst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_x0011_Louis Armstrong 2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182040" y="4413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uis one more time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33720" y="5699160"/>
            <a:ext cx="37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ing “What Did I Do to be So Black and Blu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uis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#13;Flapper Girl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41680" y="519120"/>
            <a:ext cx="3860640" cy="581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975240" y="280368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&#9;Minstrels 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030400" y="569880"/>
            <a:ext cx="5081760" cy="5716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2400" y="166068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st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&#13;mr. bojangles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74760" y="843120"/>
            <a:ext cx="6593040" cy="5170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270160" y="623268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 Boj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_x0012_James Reese Europe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562040" y="165240"/>
            <a:ext cx="6019920" cy="6527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670680" y="1203480"/>
            <a:ext cx="10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_x000f_mr. bojangles 2                                                0000652A&#9;De Santis                      ABA78158:"/>
          <p:cNvPicPr/>
          <p:nvPr/>
        </p:nvPicPr>
        <p:blipFill>
          <a:blip r:embed="rId1"/>
          <a:srcRect l="0" t="0" r="28885" b="28897"/>
          <a:stretch/>
        </p:blipFill>
        <p:spPr>
          <a:xfrm>
            <a:off x="2666880" y="228600"/>
            <a:ext cx="4507200" cy="6375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64680" y="150804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jang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0c_Paul Robeson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685800"/>
            <a:ext cx="4587840" cy="556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824040" y="158436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e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_x0010_sissel and blake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38120" y="1682640"/>
            <a:ext cx="6465960" cy="3492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421720" y="58514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sel and B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lem Renaissance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_x0016_aaron douglas painting                                         0000652A&#9;De Santis                      ABA78158:"/>
          <p:cNvPicPr/>
          <p:nvPr/>
        </p:nvPicPr>
        <p:blipFill>
          <a:blip r:embed="rId1"/>
          <a:srcRect l="0" t="0" r="-32682" b="-32677"/>
          <a:stretch/>
        </p:blipFill>
        <p:spPr>
          <a:xfrm>
            <a:off x="2895480" y="1752480"/>
            <a:ext cx="4768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_x000e_Augusta Savage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47840" y="971640"/>
            <a:ext cx="4648320" cy="491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95080" y="18892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_x0011_covarrubias print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30560" y="1143000"/>
            <a:ext cx="28828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41720" y="112716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ru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x0011_cullen book cover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24080" y="1352520"/>
            <a:ext cx="2895840" cy="4152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00000" y="22701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#13;Harlem Parade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395360" y="1327320"/>
            <a:ext cx="6351480" cy="420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945960" y="57754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de in Har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&#10;The Crisis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29080" y="569880"/>
            <a:ext cx="3886200" cy="5716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17680" y="188928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_x0015_ex-coloured man cover                                          0000652A&#9;De Santis                      ABA78158:"/>
          <p:cNvPicPr/>
          <p:nvPr/>
        </p:nvPicPr>
        <p:blipFill>
          <a:blip r:embed="rId1"/>
          <a:srcRect l="0" t="0" r="-90709" b="-90713"/>
          <a:stretch/>
        </p:blipFill>
        <p:spPr>
          <a:xfrm>
            <a:off x="3429000" y="1371600"/>
            <a:ext cx="3487680" cy="495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700600" y="4784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_x0014_home to harlem cover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41680" y="747720"/>
            <a:ext cx="3860640" cy="5361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595080" y="219384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_x0012_hurston book cover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703680" y="2130480"/>
            <a:ext cx="1736640" cy="2597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203480" y="20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_x0011_Weary Blues Cover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870280" y="1187280"/>
            <a:ext cx="3403440" cy="4483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95080" y="249876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_x0013_jacob reis painting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137040" y="1486080"/>
            <a:ext cx="2869920" cy="3886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127520" y="23464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ob 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_x000b_phayden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0"/>
            <a:ext cx="4217760" cy="5486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955960" y="585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1523880" y="5627520"/>
          <a:ext cx="5945400" cy="1230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5627520"/>
                    <a:ext cx="594540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_x000b_hayden1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676520" y="228600"/>
            <a:ext cx="6095880" cy="45514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444320" y="5105520"/>
            <a:ext cx="65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Big Be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rom the John Henry Se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Museum of African American Art Los Ange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_x000b_hayden2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600200" y="228600"/>
            <a:ext cx="6262560" cy="4826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3029760" y="5470560"/>
            <a:ext cx="534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lu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tch Billops Collection, Inc., New Y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_x000b_hayden3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0"/>
            <a:ext cx="481176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295000" y="5788080"/>
            <a:ext cx="339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Janitor who P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National Museum of American 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mithsonian Instit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shington, D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#13;Protest March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554120" y="1263600"/>
            <a:ext cx="6033960" cy="433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945960" y="592776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st M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_x000b_hayden5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414440" y="792000"/>
            <a:ext cx="6313680" cy="5272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430080" y="6156360"/>
            <a:ext cx="202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Jeune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tercolor on paper, 14 x 17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ollection Dr. Meredith F. Sirman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w Y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_x000c_wjohnson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819520" y="304920"/>
            <a:ext cx="3449520" cy="5029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5120" y="5334120"/>
            <a:ext cx="9124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illiam H. Johnson entered the Harlem Renaissance during its making. He came to New York in 1918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lorence, South Carolina, to embark on his career. He became a student at the National Academy of Desig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e was educated there for five years, during which he learned from greats such as George Luks and Char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wthorne. He then traveled to places in North Africa and Europe to paint and find residence. It wa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uggestion of Hawthorne that he traveled to Paris in 1826, where he settled, painted, and studied the work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odern European mas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_x000c_johnson1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743200" y="0"/>
            <a:ext cx="55641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287280" y="207972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irl in a Red Dress, ca. 19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_x000c_johnson2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171880" y="372960"/>
            <a:ext cx="4800600" cy="6110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0" y="57913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lf-Portrait, 19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0c_johnson3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143000" y="76320"/>
            <a:ext cx="8001000" cy="6781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0" y="6461280"/>
            <a:ext cx="197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wing Low Sweet Chari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tional Museum of American 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_x000c_johnson4.jpg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197080" y="620640"/>
            <a:ext cx="4749840" cy="5614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34360" y="5791320"/>
            <a:ext cx="231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in G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ational Museum of American 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mithsonian Institu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Washington, D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_x000b_lmjones.jpg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5486400" y="0"/>
            <a:ext cx="3408480" cy="5334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0" y="2895480"/>
            <a:ext cx="32253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ois Mailou Jones was a pioneering artist of the Harlem Renaissan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orn in New England, her life was still clouded by the prejudices of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veryday African American life. She began her career after attending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chool of the Museum of Fine Art in Boston. Afterwards, she w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rough the racial barriers to exhibit her works to the world. S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ersevered through many roadblocks and prejudices, without e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losing her passion to express herself through 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&#10;jones2.jpg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757520" y="1390680"/>
            <a:ext cx="5627520" cy="4076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126440" y="584352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ishing Sm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enemsha, Massachusettes, 1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#10;jones3.jpg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1523880" y="-380880"/>
            <a:ext cx="6121440" cy="7238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518760" y="5942160"/>
            <a:ext cx="175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egro Youth, 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&#10;harlem.gif                                                     00022C66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304920"/>
            <a:ext cx="4559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#13;shoeshine man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668600" y="1022400"/>
            <a:ext cx="5805360" cy="481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90160" y="2422440"/>
            <a:ext cx="8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s of the 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_x000c_Claude McKay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048120" y="1905120"/>
            <a:ext cx="3149640" cy="3822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282320" y="289404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ude McK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_x000e_Claude McKay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46280" y="601560"/>
            <a:ext cx="4051440" cy="5653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824040" y="24987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1219320" y="380880"/>
            <a:ext cx="685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, let it not be like h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unted and penned in an inglorious spo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le round us bark the mad and hungry do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king their mock at our accursed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f we must die, O let us nobly d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 that our precious blood may not be 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vain; then even the monsters we de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all be constrained to honor us though dea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 kinsmen! we must meet the common fo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ough far outnumbered let us show us bra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for their thousand blows deal one death-bl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though before us lies the open gr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ke men we'll face the murderous, cowardly p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essed to the wall, dying, but fighting ba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-Claude McK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mckay.aif" descr=""/>
          <p:cNvPicPr/>
          <p:nvPr/>
        </p:nvPicPr>
        <p:blipFill>
          <a:blip r:embed="rId1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_x000e_Countee Cullen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822960" y="211788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_x0010_Countee Cullen 2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305080" y="696960"/>
            <a:ext cx="4533840" cy="5462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289800" y="1736640"/>
            <a:ext cx="12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_x0014_James Weldon Johnson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70320" y="569880"/>
            <a:ext cx="4203360" cy="5716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443160" y="1660680"/>
            <a:ext cx="11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_x0016_James Weldon Johnson 2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997360" y="1517760"/>
            <a:ext cx="3149280" cy="38224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824040" y="1812960"/>
            <a:ext cx="11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&#10;JeanToomer  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533520"/>
            <a:ext cx="3892680" cy="4724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822600" y="112716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&#10;brown3.gif                                                     00000012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228600"/>
            <a:ext cx="5333760" cy="6400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64680" y="1889280"/>
            <a:ext cx="179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Raine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brown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&#13;Jessie Fauset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724120" y="12600"/>
            <a:ext cx="3695760" cy="6832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89800" y="15843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_x0012_Soldiers on Parade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77800" y="1327320"/>
            <a:ext cx="6186600" cy="420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650680" y="608004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on Pa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ston Hughes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_x000f_Langston Hughes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213000" y="1955880"/>
            <a:ext cx="3537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5440" y="457200"/>
            <a:ext cx="827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Negro Speaks of Rivers (to W. E. B. B. DuBo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've known 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've known rivers ancient as the world and older than th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f human blood in human ve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y soul has grown deep like the 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bathed in the Euphrates when dawns were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built my hut near the Congo and it lulled me to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looked upon the Nile and raised the pyramids abov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 heard the singing of the Mississippi when Abe Lincoln w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own to New Orleans, and I've seen its muddy bosom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l golden in the sun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Langston Hug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hughes.aif" descr=""/>
          <p:cNvPicPr/>
          <p:nvPr/>
        </p:nvPicPr>
        <p:blipFill>
          <a:blip r:embed="rId1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_x0011_Langston Hughes 2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228600"/>
            <a:ext cx="5059080" cy="6324480"/>
          </a:xfrm>
          <a:prstGeom prst="rect">
            <a:avLst/>
          </a:prstGeom>
          <a:ln w="0">
            <a:noFill/>
          </a:ln>
        </p:spPr>
      </p:pic>
      <p:pic>
        <p:nvPicPr>
          <p:cNvPr id="206" name="sunnyland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_x0011_Langston Hughes 3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3581280" y="1523880"/>
            <a:ext cx="30783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_x0011_Langston Hughes 4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380880"/>
            <a:ext cx="4076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_x0011_Langston Hughes 5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86000" y="380880"/>
            <a:ext cx="5335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1_Langston Hughes 6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_x0011_Langston Hughes 7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16120" y="671400"/>
            <a:ext cx="3911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_x0011_Langston Hughes 8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36600" y="1174680"/>
            <a:ext cx="6669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_x0011_Langston Hughes 9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914400"/>
            <a:ext cx="41166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#13;Wedding Party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217520" y="1073160"/>
            <a:ext cx="670716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802240" y="623268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rlem Wedd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_x000c_Nella Larsen  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28760" y="387360"/>
            <a:ext cx="4686480" cy="6083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365760" y="150804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_x000e_Nella Larsen 2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438280" y="457200"/>
            <a:ext cx="4754520" cy="6095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594360" y="105084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_x000e_Nella Larsen 3  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66880" y="685800"/>
            <a:ext cx="3856320" cy="57783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594360" y="1432080"/>
            <a:ext cx="13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_x0010_W. E. B. Du Bois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698920" y="762120"/>
            <a:ext cx="3746160" cy="53337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138240" y="135576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. E. B. Du B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_x0012_W. E. B. Du Bois 2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133720" y="304920"/>
            <a:ext cx="5086080" cy="6172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824400" y="21938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B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a Neale Hurston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_x0014_Zora Neale Hurston 3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1585800"/>
            <a:ext cx="3730680" cy="52722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289800" y="531828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ng You Ba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zora.aif" descr=""/>
          <p:cNvPicPr/>
          <p:nvPr/>
        </p:nvPicPr>
        <p:blipFill>
          <a:blip r:embed="rId2"/>
          <a:stretch/>
        </p:blipFill>
        <p:spPr>
          <a:xfrm>
            <a:off x="873756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_x0012_Zora Neale Hurston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14600" y="76320"/>
            <a:ext cx="46926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_x0014_Zora Neale Hurston 2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590920" y="914400"/>
            <a:ext cx="41479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_x0014_Zora Neale Hurston 4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2209680" y="228600"/>
            <a:ext cx="5240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_x0010_Carl Van Vechten                                               0000652A&#9;De Santis                      ABA78158:"/>
          <p:cNvPicPr/>
          <p:nvPr/>
        </p:nvPicPr>
        <p:blipFill>
          <a:blip r:embed="rId1"/>
          <a:stretch/>
        </p:blipFill>
        <p:spPr>
          <a:xfrm>
            <a:off x="1981080" y="304920"/>
            <a:ext cx="5943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18:45:08Z</dcterms:created>
  <dc:creator>English</dc:creator>
  <dc:description/>
  <cp:keywords/>
  <dc:language>en-US</dc:language>
  <cp:lastModifiedBy>Sacerdote, Kevin R.</cp:lastModifiedBy>
  <dcterms:modified xsi:type="dcterms:W3CDTF">2016-12-08T13:38:39Z</dcterms:modified>
  <cp:revision>63</cp:revision>
  <dc:subject/>
  <dc:title>PowerPoint Presentation  -  The Harlem Renaissance</dc:title>
</cp:coreProperties>
</file>